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3F99-F24D-4D85-81F2-8B08A5D3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flybase controlled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tment - groups of cells that don’t m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pato relational terms - used for annotations not for the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4A9-5D6F-4793-8A1C-4311C1AC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9AC-CDC8-4420-BEDF-1916444C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2A4-D68D-4B6D-89F8-D0BD1E03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D34-6E08-4074-88A7-A1477624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FC4-036F-465F-AC06-7C6B3F69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C96-C7DA-49B7-8DBD-589EB452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19B-7BCA-4B10-B9DC-904DF4C2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68F-BB11-4319-85E3-C642B732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415-FEE4-4596-8643-3C53835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D73-B09C-4F5A-AA42-3F44CCA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F31-99AC-40F0-AC06-25B72AE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A9F-66B6-4A1A-947B-C10EBE80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E5EA-349A-4D7F-809A-2324AA19F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ttached_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oundary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a fide vs. fiat - when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6765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anatomical qual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terior margin of supraorbital b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SPO:anterior marg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TAO:supraorbit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n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modifiers for quality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ontal bone laterally compress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: front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TO:compress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as_ax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SPO:left/right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t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ors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xim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rro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tral_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cinity_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104920"/>
            <a:ext cx="42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relations and PATO spatial relational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_to: fia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752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xon tra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uro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520" y="2786040"/>
            <a:ext cx="4755960" cy="26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anatomical relation which holds between each anatomical structure of type A and some anatomical structure of type B such that each structure shares some part of its bona fide anatomical surface with that of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y’s definition (from obo-discuss): x is connected_to y if x and y share a fiat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hich holds between each anatomical entity of type A and some anatomical entity of type B such that there is no bona fide boundary between their contiguous constitutional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5400" y="1860480"/>
            <a:ext cx="4797720" cy="309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0520" y="62485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46483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5562720" cy="3057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+ bon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called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a fide boundar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4797360" cy="309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72240" y="1752480"/>
            <a:ext cx="2725560" cy="467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7680" y="59817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5480" y="60292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: top level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: top level di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grad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harac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terior margin of lateral ethmoi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0) straight, parallel to anterior edge of orbitosphenoid &amp; abruptly angled at midline; (1) broadly curved in ventral view, forming convex a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19520" y="3048120"/>
          <a:ext cx="2509560" cy="29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8120"/>
                    <a:ext cx="25095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9:11Z</dcterms:created>
  <dc:creator>Wasila Dahdul</dc:creator>
  <dc:description/>
  <dc:language>en-US</dc:language>
  <cp:lastModifiedBy>Wasila Dahdul</cp:lastModifiedBy>
  <dcterms:modified xsi:type="dcterms:W3CDTF">2008-05-19T18:55:25Z</dcterms:modified>
  <cp:revision>92</cp:revision>
  <dc:subject/>
  <dc:title>PowerPoint Presentation</dc:title>
</cp:coreProperties>
</file>